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34.gif" ContentType="image/gif"/>
  <Override PartName="/ppt/media/image36.jpeg" ContentType="image/jpeg"/>
  <Override PartName="/ppt/media/image40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8.gif" ContentType="image/gif"/>
  <Override PartName="/ppt/media/image29.jpeg" ContentType="image/jpeg"/>
  <Override PartName="/ppt/media/image7.gif" ContentType="image/gif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5F8-3366-496E-9947-85129314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BE5-8185-4961-A7F9-C2B8E78F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1E4-56A7-4687-86DF-8BC1AFA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CFB-9E5E-4983-8975-D717A00A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111-9504-450F-88C0-6BC8DB67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F7AE-93D7-4D61-B4A4-DAC13742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ECE0-432A-483A-BE8F-480F0576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11B3-545C-4DEE-9FB9-63BB8C9B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CE81-F984-4B3C-B7ED-708FC90F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921C-EA9B-4119-865E-1D933051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145-57AC-4BF3-A97B-CFCB5A9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B7A-C5F7-4DAC-9F69-F7758B70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0616-2770-4F2D-A8FE-228BABA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58B-9B09-4354-B8F4-535A8F4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9FC4-F4E6-4406-A988-8ECC7C0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39F5-4896-42DC-BE17-2DE28715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AC31-37ED-4757-ACF1-F7B6D43E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83C-4FDB-40FB-9C6B-32A6F57F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4F3-E95D-44D2-B8A4-48853BDD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27C-EE67-4689-AF88-674B5B6D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E2F-07F0-4163-B5AF-C57A7E1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8F4-F384-4F2B-8482-B91CA89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C80-A313-4F61-91D9-99F8738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F46-DCAD-455F-9BBC-226767E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9BA0-7A0A-4FDF-BA52-D9500CCC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B0BA-D19E-4334-A6DD-13785456D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IV WAS TE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an the Terrible had a mistrust of the nobility (it was rumored they had poisoned his mother) and it was his treatment of them that earned him the nick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an massacred thousands of boyar families and forcibly relocated thousand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80120" y="1600200"/>
            <a:ext cx="3624120" cy="510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IV’S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IV’s most important achievement was a system of central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created departments of state which resulted in more efficient management of military and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sian surfs lost their right of movement from estate to estate and overall had far fewer rights than their western counter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640" y="1639800"/>
            <a:ext cx="3657600" cy="444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6172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sian peas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OLAND-LITHU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3487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the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Casimir IV (1447-1492) ruled the kingdom of Poland and the grand duchy of 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mal union of Polish and Luthuanian crowns in 1569 decentralized the states and gave the nobles mor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end, the states split and Russia took most of Luthuania while the Ottomans took most of Hung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144792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69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WESTERN PO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ommon pattern emerged in the consolidation of western Europe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and by  administrative centralization, France by good fortune, and Spain by dynastic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419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962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TAMING OF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95320" y="53316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natural defenses of an island nation, England could have been the first European nation to consolidate had it not been for noble ambition and a weak crown (see War of the Roses, 1455-14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Tudor as Henry VII and his son Henry VIII put an end to dynastic instability and created a new nobility that owed their titles and loyalty to the Tud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duing the nobles was critical to the Tudors success in consolidating Eng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0492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INANCIAL ISSUES IN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glish monarch were supposed to live “on their own,” that is, off the revenues from his own e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liament defended the English landed class interests and had to OK taxes proposed by the c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wasn’t until Henry VIII confiscated Church lands did the crown become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ly, Henry VIII minister Thomas Cromwell created state departments and cleverly manipulated Parli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7692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 in England has long played a pivotal role in English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UNIFICATION OF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ts to France unification were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glish were finally subdued by the Hundred Years’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France’s eastern border, were the estates of the dukes of Burgu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ings of France and the dukes of Burgundy were both of the House of Val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ckily for France, the Burgundians were defeated in a war against Swiss forces in 1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3963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8600" y="5943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Markward of Reisenber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Nancy, 14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IS XI CONSOLIDATES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 XI vastly increased the territories under France domain and he subdued the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enemies constantly underestimated his abilities, earning him the nickname “the Spi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gained Brittany and Orleans by marriage and in 1527 when the lands of Bourbon fell to the crown, the French monarch ruled a unifi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0520" y="182880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81480" y="1981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uis XI, 1461-14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95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IS XI FAILS TO NAB LOW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1784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misstep by Louis XI was the failure to gain the Burgandian Low Countries for France after the death  of Charles the Bold in 1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riage of Mary of Burgundy to Maximilian of Hapsburg was a significant turning point in Europea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itiated the struggle for control of the Low Countries that lasted for more than two centu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RANCE FIN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ng years of wars established the principle of royal taxation that was critical to nation building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ed the crown to raise money for defense and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tax burden fell to the commoners, the so-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rd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es includ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il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land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bel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alt) an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arious goods including meat and wi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6479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UROPE IN 1500: THE AGE OF THE NEW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arly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was the age of the prince, the first stage of nation building that would last for 3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Monarchs consolidated territories that were divided culturally, linguistically, and histo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New Monarchs started the process of building European nation-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932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NCH NATIONAL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ench monarchy was the first to establish a national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nobility were recruited the cavalry, from the towns and countryside the massive inf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27672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18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ARRIAGES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there was little hope of a unifie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nish people were divided in several separa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dominant states wer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t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largest and richest, and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rag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was composed of  a number of quasi-independen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1555920"/>
            <a:ext cx="5181480" cy="4908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276720" y="297180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429000" y="3124080"/>
            <a:ext cx="3809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00600" y="38088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RDINAND AND ISAB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95680" y="16761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469, teenagers Ferdinand (Aragon) and Isabella (Castile) exchanged wedding v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479, the two crowns were united and the Catholic monarchs ruled the two kingdoms jointly and took the first steps toward forging a single Spanish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179960" cy="6019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63993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rdinand and Isabella, Artist: David Gal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RECONQU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notable achievement of the Spanish monarchs was the recovery of the lands that had been conquered by the Moors (what the Spanish called the 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enturies, the Spanish kingdoms had fought against the North African Muslims, who had conquered large areas of the souther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1606680"/>
            <a:ext cx="4289400" cy="4794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3809880" y="4495680"/>
            <a:ext cx="1905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NQUISTA 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al stages of the reconquista began in 1482 and lasted a 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ggle was wages as a holy war and funded in part by the pope and Christian princes of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much blood loss, Granada finally fell and the province was absorbed into Cas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322520" cy="5105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4114800" y="4114440"/>
            <a:ext cx="2133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EWS PERSECUTED IN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of a holy war had other consequences – Jews who had risen to prominence in government and in skilled professions in Spain were now at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conversos (Jews who converted to Catholicism) fell prey to the Spanish Inquisition as Jews across Spain were expelled in 14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90760" cy="4116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anish Inquisition used torture, public humiliation, and burnings at the stake to rid Spain of non-Catho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RDINAND AND ISABELLA CONSOLIDATE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unifying measures undertaken by the Spanish monarch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Castile the offici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ingle co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ed the kingdom extensively to promote loya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9625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LES V INHERITS VAST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dinand and Isabella’s grandson became the Emperor Charles V (1516-15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had been born and raised in the Low Countries, where he ruled over Burgundy and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a series of dynastic accidents, he became heir to the Spanish crown with its possessions in the New World and to the vast Habsburg estates that included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3135240" cy="358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1320" y="53341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I of Spain    AKA Charles V of the Holy Roman Empire, 1516-15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LES V USHERS IN SPAIN’S GOLDEN 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ngle most important factor in Charles’s success in unifying the Spanish kingdoms of Iberia was the fact that he had brought Spain into the forefront of European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pride in their success and prominence had replaced region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and silver from the New World finance Charles’s great empire in the16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YNASTIC STRUGG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7400" y="1190520"/>
            <a:ext cx="5105520" cy="34988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rmation of large states throughout Europe led inevitably to conflicts amo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was a period of general warfare on the European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’s were an extension of a Prince’s heritage, thus the wars of 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were dynastic w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S IN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Monarchs waged war in a some new and improved ways from their medieval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and Silver from New World meant larger professional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and suppl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(dispatches) allowed for quicker, more effective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48444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724280" y="594216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and Swiss soldiers sold their services to the highest bid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MAIN PLAY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e main players in the dynastic wars of the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we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rles 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HRE, Spain)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ancis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rance)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nry VI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g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hree monarchs matured their youthful wars of conquest turned into strategic warfare designed to maintain a continental balan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920" y="1219320"/>
            <a:ext cx="177156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1752840" cy="251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629080" y="4495680"/>
            <a:ext cx="1847520" cy="221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 flipV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80920" y="342900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11444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ITALIAN W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ggle for European supremacy in the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pitted the French House of Valois vs. the empire of the Habsbu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ttle ground was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t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, France seized Naples only to have the Spanish reclaim it soon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when Francis I came to the French throne and Charles V to the Spanish, Naples was just one source of fr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7432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343400" cy="3946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3429000" y="44953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TTLEFIELD: MI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1515, Francis I stunned Europe with a victory over the Swiss mercenaries at the battle of Marignano (Mi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an soon appealed to Charles V to help against the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es V then allied with Henry VIII against the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is I himself was captured at the Battle of Pavia as Charles V won a decisive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27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ANCIS’S FORTUNES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being captured and forced to sign the Treaty of Madrid granting the HRE many concessions, Francis’s fortunes soon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returned to France, renounced the treaty, formed new alliances with a dissatisfied Henry VIII and most importantly with the powerful Ottoman sultan, Suleiman the Magnificent (1520-156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33760" cy="4226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76920" y="58672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lliance with Suleiman made Francis I a formidable 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IGHTING O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end, the French could not dislodge the Habsburgs from Italy nor could the Habsburgs dislodge the Ottomans from 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, the Treaty of Cateau-Cambresis in 1559 ended 60 years of European confl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France and Spain were bankrupt for decades of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254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280" y="5257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eace of Cateau-Cambresis, ending the Italian Wars, was agreed there on April 2-3, 15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LUDING THOUGHTS ON THE NEW MONAR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V abdicated his throne in 1555 and divided his empire between his brother Ferdinand I (Austria, German lands) and his son Philip II (Low countries, Spain, New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Monarchs consolidated European nations while forever ending any dream of a unified Christia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62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East, three great empires dominated the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ngol, the Ottoman, and the Russian (Musco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nd-Lithuania also comprised an enormous terr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n lands were less fertile than the west and the climate was more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3556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8840" y="0"/>
            <a:ext cx="3962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NTRAL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of the continent was defined by the H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cally, central Europe was comprised of numerous principalities, Church lands, and free t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end of the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, the HRE was an empire in n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Europe was rich in minerals and ti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berian Peninsula, the French territories, and the British Isles formed the westernmost borders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iculturally, the French lands were the richest in all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6716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FORMATION OF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involved in the formation of states in Europe in the lat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cluded geography, population, natural resources, social characteristics, language, and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more, advances in warfare made consolidation easier -- what could not be inherited or married could be conqu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ombination these factors slowly moved Europe toward formation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2506680"/>
            <a:ext cx="2819520" cy="24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5105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tion! Europe under constru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2193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ASTERN 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eginning of the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the principality of Muscovy was the largest political unit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Ivan III, “the Great” (1462-1505), Muscovy expanded greatly largely due to deterioration of the Mongol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III extended the privileges of the nobility and organized a military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9800" y="152280"/>
            <a:ext cx="3538440" cy="495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00600" y="5181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greatest historian, Sergei Platonov wrot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Grand Duke Ivan, endowed with quick wit and a will of iron completed the unification of the Russian lands under Moscow’s hand…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an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THE TE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litary and political achievements of Ivan the Great were furthered by his grandson Ivan IV, “the Terrible” (1533-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an IV defeated the Mongols on his SE border and incorporated the entire Volga river basin into Musco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his reign Muscovite society was divided into three groups: heredity nobility (boyars), the military service class, and the peasa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1588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46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2:55:27Z</dcterms:created>
  <dc:creator>Susan Gregory</dc:creator>
  <dc:description/>
  <dc:language>en-US</dc:language>
  <cp:lastModifiedBy>Susan Gregory</cp:lastModifiedBy>
  <dcterms:modified xsi:type="dcterms:W3CDTF">2007-09-16T02:57:17Z</dcterms:modified>
  <cp:revision>4</cp:revision>
  <dc:subject/>
  <dc:title>PowerPoint Presentation</dc:title>
</cp:coreProperties>
</file>